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3E05-3971-486F-8B6D-CF89E5D3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81E0-AF34-4E46-A9BA-112351EB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F92C-98D7-483C-B3E6-6AD67C02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BE2E-66E9-49D3-8E1C-0AE955D1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7AB5-E864-4B8C-BF8C-EB98996B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0ACF-809A-4FDE-AF18-7B24E7CA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C191-6292-4788-8AA6-99A7BE9A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7A6-E133-4CE9-973E-152B9EF2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0FF4-EC33-4A44-88FD-0E10D1C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1108-579C-4911-A6B5-1EA4F967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490E-DFEA-43C9-B966-C47E94D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13C0-86CB-4F44-B28D-9EC4635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8FF9-01CD-44CA-815C-635AF4E8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B215-D809-4BFB-85D6-804C196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740-D3F8-4F43-BD4A-727DCD00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6D03-967E-481E-A702-F9C1A1D3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704A-4E38-4E6E-96A6-3B150B8F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E1C3-FEF0-4CD9-AFB1-C58A89CC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40F2-1581-4D23-BEAE-50758EB4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E348-6798-4A6D-9F7D-97FD8E5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7C0B-47CB-44A9-AE12-5C2D65D9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5DEE-BC08-45D5-B515-AEDD7EA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3624-0D4F-477D-9E6F-F7B9AB9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9641-9E9F-435D-A164-8A76C42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F43C-CF72-49B4-A693-B456205D90F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AED-032B-4A77-AE06-69D4DD00DEF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360720"/>
            <a:ext cx="95774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94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ивет теб, красиво утро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ие слънце пак изгр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ете колко чуд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зарява, без да спр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рховете заблестяв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чудна, нова светли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без думи изявяв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на Твореца любовт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81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О, защо да сме унил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ий Бог не е ли ж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ли в Него сме се скрил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тълба Божи от Хори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 скърби и страд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ин ден ще имат к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тез трудни изпит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Той ни води в Божи рай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779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Също тъй след нощния мра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реха и на смърт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изгрее слънцето па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живот във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Исус е това Слън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та Му е спасени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ъзрадвайте се всичк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пейте Му хваление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0-30T14:58:59Z</dcterms:modified>
  <cp:revision>229</cp:revision>
  <dc:subject/>
  <dc:title>Slide 1</dc:title>
</cp:coreProperties>
</file>